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9128-3448-442F-8E7F-B03BC9FEC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984D-84DF-4744-ADB8-56D58D7E1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CB14-A31C-4854-BFA5-568555E98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D6FC4-DEA1-4076-9545-5750C4654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5230-DCA4-4108-93E0-DC4BF4332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0A9C-296F-4512-8184-1BA1034BD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0265-2203-498E-94FC-6546ABA58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BF2B-B476-47E0-87C4-68FF9B9FC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A5F5-E2E2-4AE0-85D1-C83BC6C57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F415-5FE2-4047-A6B7-93521AE13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DF15D-3C66-47FA-B7EB-1E499056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E555-7049-4056-B4FD-8850EE42D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0B22-DAEE-4FBC-BCBC-5F609BC42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EE8A-D037-40EA-B908-135F02878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Round Single Corner Rectangle 6"/>
          <p:cNvSpPr/>
          <p:nvPr/>
        </p:nvSpPr>
        <p:spPr>
          <a:xfrm>
            <a:off x="0" y="6400800"/>
            <a:ext cx="8305920" cy="45720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1143000"/>
            <a:ext cx="830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F90-B3A8-48C0-9FAB-B7D8BA35E48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1423905857_large.jpg"/>
          <p:cNvPicPr/>
          <p:nvPr/>
        </p:nvPicPr>
        <p:blipFill>
          <a:blip r:embed="rId3"/>
          <a:srcRect l="36372" t="40162" r="56069" b="11634"/>
          <a:stretch/>
        </p:blipFill>
        <p:spPr>
          <a:xfrm>
            <a:off x="8763120" y="2666880"/>
            <a:ext cx="380880" cy="312444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ound Single Corner Rectangle 6"/>
          <p:cNvSpPr/>
          <p:nvPr/>
        </p:nvSpPr>
        <p:spPr>
          <a:xfrm flipH="1">
            <a:off x="4876200" y="6324480"/>
            <a:ext cx="4267080" cy="53352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693432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1447920" cy="1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423905857_large.jpg"/>
          <p:cNvPicPr/>
          <p:nvPr/>
        </p:nvPicPr>
        <p:blipFill>
          <a:blip r:embed="rId4"/>
          <a:srcRect l="12127" t="39980" r="64650" b="11429"/>
          <a:stretch/>
        </p:blipFill>
        <p:spPr>
          <a:xfrm>
            <a:off x="0" y="1219320"/>
            <a:ext cx="175248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1423905857_large.jpg"/>
          <p:cNvPicPr/>
          <p:nvPr/>
        </p:nvPicPr>
        <p:blipFill>
          <a:blip r:embed="rId5"/>
          <a:srcRect l="32739" t="23199" r="0" b="63421"/>
          <a:stretch/>
        </p:blipFill>
        <p:spPr>
          <a:xfrm>
            <a:off x="6858000" y="304920"/>
            <a:ext cx="219384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423905857_large.jpg"/>
          <p:cNvPicPr/>
          <p:nvPr/>
        </p:nvPicPr>
        <p:blipFill>
          <a:blip r:embed="rId6"/>
          <a:srcRect l="36372" t="40162" r="16667" b="11634"/>
          <a:stretch/>
        </p:blipFill>
        <p:spPr>
          <a:xfrm>
            <a:off x="6781680" y="23623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el Tutorial 1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anding Excel with Visual Basic for Ap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Sub Proced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3A2A-8FFF-4D81-BD58-A742ED73C965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38240" y="2643120"/>
            <a:ext cx="661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is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-oriented programming 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 which tasks are performed by manipulati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B559-F939-42A0-B361-EDB72C28A3B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296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s are often grouped into collections, which are themselves objects,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24F-37A3-41EA-8D49-C04DA8AC2785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334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organizes objects and object collections in a hierarchy with the Excel application at the top and the individual cells of a workbook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850F-E57C-4653-847B-47AD3A51495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6753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79C9-FBBE-47A2-A74A-5A3CBBE0A29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62040" y="2195640"/>
            <a:ext cx="736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y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tion that can be performed on an object, such as closing a workbook or printing the contents of a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20E-AC53-461E-AA2C-A7249A57FDA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277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Variable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amed element in a program that can be used to store and retriev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variable is identified by a uniqu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1CE4-2C5E-43FF-94BC-8DFB629104D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2961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rieving Information from the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774-D144-418A-9ABC-8CFB75FFACE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90560" y="2459160"/>
            <a:ext cx="7105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81E7-0758-4B98-A4EF-C9E1F7FF3C7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81120" y="1839960"/>
            <a:ext cx="7324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DA0D-0369-4617-B627-BE898FF0A64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04840" y="2376360"/>
            <a:ext cx="6477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macro using the macro rec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the Project Explorer and Properties window of the VBA Ed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a sub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a sub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VBA objects, properties, an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input box to retrieve information from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5AE1-9F67-4DD2-B481-AA3CE9134BF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28B0-8B34-46FB-A06C-4FF85158B58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19240" y="1862280"/>
            <a:ext cx="6448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403-8790-4CBE-89B1-6E4C0F878FA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952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2209680" y="3886200"/>
            <a:ext cx="5810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Message 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gBox Prompt, Buttons,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B5CE-89E3-4246-B4CB-A344AFB743E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115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the Quick Access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ffice Button, and then click Excel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Customize in the Excel Options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Customize Quick Access Toolbar arrow, and select whether to customize the toolbar for all documents or a specific work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d a command to the Quick Access Toolbar, click the command in the left list box, and then click the Add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a command from the Quick Access Toolbar, click the command in the right list box, and then click the Remove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E35-241B-4961-9B08-5B74B19E0A1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the Quick Access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F3F-A496-4181-9570-42F696AFB59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23840" y="1601640"/>
            <a:ext cx="6639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Excel Screen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 screen elements fall into three general categories with elements that are: (1) part of the Excel program, (2) part of the Excel workbook window, and (3) part of the Excel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6CD-CDF4-4904-8B57-BD5B1693EDA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5043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 Customization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F846-C588-445E-992F-7B44557D2DE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04880" y="2144880"/>
            <a:ext cx="7277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Save As PDF Add-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DF (Portable Document Form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file format developed by Adobe Systems that supports all of the elements of a printed document but in an electronic format that is easily sha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-in available from microsof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821-4D19-4518-8C25-88E17FA536D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run If-Then control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comparison and logic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message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 the Quick Access Tool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4721-9CF9-42C5-BD0D-58E9DD16C3F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n Excel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C5EE-4B96-4485-96AC-8D4AAA53F8E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Excel Developer tab is not on the Ribbon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fice Butt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 O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Excel Options dialog box (if necessary)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w Develop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i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bb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ck box to insert a check mark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de group on the Developer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cr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name in the Macro name box, if necessary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7902-9CA6-4157-87B3-7496A2E3E61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914400" y="3298680"/>
            <a:ext cx="6400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collection of macros, worksheets, data-entry forms, and other items that make up the customized application you’re trying to cre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Explor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window in the Visual Basic Editor that displays a hierarchical list of all currently open projects and their 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Explorer window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ck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y element within the Excel working environment such as a worksheet, cell, workbook, or even Excel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C91D-9ABA-4C0C-8CA7-64003D42E9A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er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ttribute of an object that defines one of its characteristics, such as its name, size, color, or location on the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view a list of properties for any object i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erties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collection of VBA mac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de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plays the VBA macro code associated with any item in Projec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5D8-C6BE-4800-BF64-5925819CAE2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C66D-AA25-465F-A4A9-7C0B4C7ECA4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809640" y="2030400"/>
            <a:ext cx="7067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Sub Proced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 proced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s an action on your project or workbook, such as formatting a cell or displaying a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erty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create custom properties for the objects in your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ta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s to the set of rules that specify how you must enter certain commands so that VBA interprets them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statement that describes the behavior or purpose of a procedure, but does not perform any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EE08-89B7-429D-ADFD-345973D6CDC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lrobbins</cp:lastModifiedBy>
  <dcterms:modified xsi:type="dcterms:W3CDTF">2007-08-13T16:57:29Z</dcterms:modified>
  <cp:revision>150</cp:revision>
  <dc:subject/>
  <dc:title>PowerPoint Presentation</dc:title>
</cp:coreProperties>
</file>